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gif" ContentType="image/gif"/>
  <Override PartName="/ppt/media/image3.wmf" ContentType="image/x-wmf"/>
  <Override PartName="/ppt/media/image17.gif" ContentType="image/gif"/>
  <Override PartName="/ppt/media/image2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9C5-521C-4AF6-B934-AF6F8445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CED-5D1A-4C82-BCC8-DC4C557D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E90-8A38-4B96-9280-CE540541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977A-4B3A-4F92-B9BA-B8E0C74B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0C2-89B8-49FC-B246-0BEAA2D9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C5B-467C-4B81-93EA-253F2851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75C-1416-47DF-91E6-9B20EC37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361-8105-49CC-9A46-812C3891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54B-F645-4D2A-A861-E3471C04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68B-062D-44D1-A18F-029D5E4D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316-570B-45BB-900E-183A4C64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C60-BC06-4991-B10E-224C03A5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E945-E5DD-43D0-8210-242F988F7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Una dieta equilibr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68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Sana o mals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e este artículo. ¿Lleva una vida sana? ¿Por qu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8000" y="1341360"/>
            <a:ext cx="914400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o que soy como la mayoría de la población británic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eral odio cocinar entonces compro muchos productos pre-cocinados y comida rápida. Como unas cuatro hamburguesas a la semana y por supuesto bebo muchos refrescos. Sin embargo cuando voy a la casa de mis padres, como muchos productos que tienen vitaminas y proteínas. Mi madre insiste en que coma carne y al menos dos piezas de fruta. Y nunca se bebe Coca-Cola. Siempre pone una botella de agua mineral en la mesa. En cuanto a los productos azucarados, la verdad es que como muy pocos pasteles o caramel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ando tengo tiempo hago deporte, pero soy bastante perezoso entonces prefiero sentarme delante de la tele y hacer el zapp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¿Crees que llevo una vida sana o malsana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154476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2160720" cy="1979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03640" y="4941720"/>
            <a:ext cx="2292480" cy="155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8360" y="2575080"/>
            <a:ext cx="1871640" cy="1827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059280" y="5229360"/>
            <a:ext cx="1800000" cy="1249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84360" y="4653000"/>
            <a:ext cx="2519280" cy="153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588000" y="549360"/>
            <a:ext cx="2224080" cy="143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380360" y="4437000"/>
            <a:ext cx="156060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95280" y="549360"/>
            <a:ext cx="196848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132000" y="3860640"/>
            <a:ext cx="1511280" cy="986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59120" y="692280"/>
            <a:ext cx="1625760" cy="1244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7164360" y="2276640"/>
            <a:ext cx="143820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diferente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628640"/>
          <a:ext cx="8229600" cy="2275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819080"/>
                <a:gridCol w="1471680"/>
                <a:gridCol w="1646280"/>
              </a:tblGrid>
              <a:tr h="17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lácte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ta y legumb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azucara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 gra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s, pescados y maris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4000" y="422100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iñones / huevos / un past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 aceite / trucha / mejillones / guisantes / yogur / mantequilla / gambas / alubias / leche / pollo / cordero / pera / nata / bistec / margarina / queso / cerdo / he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com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220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ca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3168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maris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4005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productos láct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4869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materia g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177336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productos azuca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445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leg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eno para la sal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087640" cy="1447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84360" y="2205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rne tie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eche tie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4869000"/>
            <a:ext cx="1511280" cy="1315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56000" y="5300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legumb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en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ita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8492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o para la sal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1736640" cy="1682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062000" cy="1224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39640" y="5013360"/>
            <a:ext cx="1295640" cy="1338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84360" y="198900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siada charcutería d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364500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asteles tienen demasiad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53737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hamburguesas tienen much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oco 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025800" cy="1368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2457720" cy="273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40360" y="213372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hocolate tiene mucha azú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ero me gusta comerlo cuando estoy depri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436572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conseja beber vino en mode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ignifica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colesto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muchas vitam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muchas calo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 mod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pro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 materia g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a comida (mal) s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opinas de…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 costillas de ce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 salchi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salmón ahu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 bebidas alcoh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qu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zumo de naranja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a tableta de 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77080" y="1628640"/>
            <a:ext cx="1857240" cy="1462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18046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0:35:59Z</dcterms:created>
  <dc:creator>aducamp</dc:creator>
  <dc:description/>
  <dc:language>en-US</dc:language>
  <cp:lastModifiedBy> </cp:lastModifiedBy>
  <dcterms:modified xsi:type="dcterms:W3CDTF">2006-01-29T23:57:11Z</dcterms:modified>
  <cp:revision>14</cp:revision>
  <dc:subject/>
  <dc:title>Le régime alimentaire</dc:title>
</cp:coreProperties>
</file>